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A75-FA71-4166-A1F9-5AE870BC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E40-BC0A-4723-BEAB-2FDD9DBF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28E-C605-4AEE-8596-9B6C6783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F26-662F-46D9-9313-C6AB7DA9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F358-A06F-4CB6-9F54-9D3F3084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7C34-F4B6-4EFE-8F5B-0D4DFDD5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CAEF-72C2-44A7-BDDE-C58CE6A2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EC7D-0744-4F2F-A405-8080CEFC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8BF2-6CCC-441C-88A3-DBD07E39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B9B4-FDE1-4547-9944-BE66E176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9B69-0BBC-42C2-B407-FC564EF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981-7135-4B90-ACCB-1677D84C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767A-D386-40B9-ABA6-752C2B7D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593E-EF18-4CBC-AA0C-C46B9EA0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269E-C748-442F-9025-D3620AE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179B-2F13-4C9C-944E-DE2D0062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3421-ACA7-4B58-9F92-4DE46EBD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3FFF-0091-4F5C-9907-553CF74F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D37D-B582-405A-B534-3E6632A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8669-E3DA-4F32-9E17-60255EBE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9C5C-AAED-4EB9-BC2F-C07A07E3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9E7E-4BC2-47B4-9092-4CBF6004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F28-92F4-44E5-9238-26523EAA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DD6C-21F8-4991-BA49-183D914A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E140-6DFB-497F-83A9-C50D846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6945-3AC6-4D7B-AFFB-23BB38DA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C6BE-501F-42DB-8162-A1A5DEB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11C06-EF7E-4582-944F-5DAD498A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EE11-5395-44DF-A9E4-104D83A3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B032-BB25-4A74-A012-587D008D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6413-749D-4746-B957-AFF238C6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07D81-DA31-4F72-8910-B1CBF1F2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6825-FCB5-4953-830C-4A3E75AF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F20-9937-420A-A7C3-CCAA9864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14C61-8968-4F00-A2AA-0848AE5F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D4DF-6DBC-476D-9692-179D4ED1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11671-9DE9-40F5-8409-0E5F6751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757C-66B7-4CCE-A94E-B1229A72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2EDC-BB5C-4174-9533-7AD0DEF9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0AE2-87E1-4DD8-BDC0-E45292D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D1D83-10F1-4423-AF01-75F3C354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6D58-F4B5-409B-B5A8-EEA6E67B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D9F1-292F-4E29-ACE1-D001984C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432-0BDC-4486-B904-9E591DD6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941-22CB-4170-89C5-4D56AEB7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450-F90D-4297-B56D-7A268390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8BE-A08F-457D-8C6B-307D5EA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B57-4D6F-4104-993C-7DB54547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0DD8-0CED-445D-8BC3-5B4AC575F20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186C-5DAE-4EC8-9BD3-BFAD912E0FC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EB1-5662-4133-8EC3-1C8BC925B04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66CF-F5E2-410C-B990-D58B05705FF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928800" y="2214720"/>
            <a:ext cx="7307280" cy="40827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5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44416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171360"/>
            <a:ext cx="8508960" cy="12430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428760" y="1214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считано, что потенциально приливы и отливы могут дать человечеству примерно 70 млн. миллиардов киловатт-часов в год. Для сравнения: это примерно столько же энергии, сколько может дать использование в энергетических целях разведанных запасов каменного и бурого угля, вместе взятых. Образно говоря, одни только приливы могли бы обеспечить процветание на Земле тридцати тысяч современных “Америк” при максимально эффективном использовании приливов и отливов, но до этого пока дале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3" descr=""/>
          <p:cNvPicPr/>
          <p:nvPr/>
        </p:nvPicPr>
        <p:blipFill>
          <a:blip r:embed="rId1"/>
          <a:stretch/>
        </p:blipFill>
        <p:spPr>
          <a:xfrm>
            <a:off x="1311120" y="30240"/>
            <a:ext cx="6632640" cy="18478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357120" y="1357200"/>
            <a:ext cx="8429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но 1/5 часть энергии, потребляемой во всём мире, вырабатывают на ГЭС. Её получают, преобразуя энергию падающей воды в энергию вращения турбин, которая в свою очередь вращает генератор, вырабатывающий электричество. Гидростанции бывают очень мощными. Так, станция Итапу на реке Парана на границе между Бразилией и Парагваем развивает мощность до13 000 млн.Кв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23760"/>
            <a:ext cx="9139320" cy="1847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714240" y="1857240"/>
            <a:ext cx="7929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зилия активно использует сахарный тростник и через 5 лет планируется 80% транспорта перевести на этанол, который из тростника и добыва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1" descr=""/>
          <p:cNvPicPr/>
          <p:nvPr/>
        </p:nvPicPr>
        <p:blipFill>
          <a:blip r:embed="rId1"/>
          <a:stretch/>
        </p:blipFill>
        <p:spPr>
          <a:xfrm>
            <a:off x="2346480" y="96840"/>
            <a:ext cx="3682800" cy="18543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428760" y="1500120"/>
            <a:ext cx="8429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бозримом будущем природное топливо по-прежнему будет важным источником энергии. Однако природные ресурсы ограничены, и в конце концов человечество будет вынуждено перейти на использование энергии ветра и Солнца, о чем с незапамятных времен мечтают защитник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357120" y="35712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ужно принимать во внимание то, что собственно запасы топливных ресурсов ограничены. И с таким мировым потреблением как сейчас, на долго не хватит ни нефти, ни газа. Сколько это «на долго»? Прогнозировать все-таки сложно. Газа, который имеется на территории бывшего СССР, по самым оптимистическим прогнозам хватит на 70 лет. Нефть в Саудовской Аравии закончится лет так через 35. Эти цифры должны заставить задуматься всех. Это ведь не так и много. А что потом? Что делать дальше, особенно если на тот момент не будет альтернативных вариан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500040" y="285840"/>
            <a:ext cx="8072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какие альтернатив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ергии сущ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ая энер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нергия ветра и во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д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нергия приливов и отли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энер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харный тро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Прямоугольник 1" descr=""/>
          <p:cNvPicPr/>
          <p:nvPr/>
        </p:nvPicPr>
        <p:blipFill>
          <a:blip r:embed="rId1"/>
          <a:stretch/>
        </p:blipFill>
        <p:spPr>
          <a:xfrm>
            <a:off x="1122480" y="-30240"/>
            <a:ext cx="6862680" cy="1103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142920" y="928800"/>
            <a:ext cx="885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ование всего лишь 0.0125% количества энергии Солнца могло бы обеспечить все сегодняшние потребности мировой энергетики, а исполь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.5 % - полностью покрыть потребности на перспект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им из наиболее серьезных препятствий такой реализации является низкая интенсивность солнечного излучения. Даже при наилучших атмосферных условиях ( южные широты, чистое небо ) плотность потока солнечного излучения составляет не более 250 Вт/м2. Поэтому, чтобы коллекторы солнечного излучения "собирали" за год энергию, необходимую для удовлетворения всех потребностей человечества нужно разместить их на территории 130 000 км2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3500280" y="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202" name="Стрелка вверх 2"/>
          <p:cNvSpPr/>
          <p:nvPr/>
        </p:nvSpPr>
        <p:spPr>
          <a:xfrm rot="14677800">
            <a:off x="2491200" y="794160"/>
            <a:ext cx="485640" cy="1236600"/>
          </a:xfrm>
          <a:prstGeom prst="upArrow">
            <a:avLst>
              <a:gd name="adj1" fmla="val 50000"/>
              <a:gd name="adj2" fmla="val 49854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трелка вверх 3"/>
          <p:cNvSpPr/>
          <p:nvPr/>
        </p:nvSpPr>
        <p:spPr>
          <a:xfrm rot="10800000">
            <a:off x="4285800" y="2357280"/>
            <a:ext cx="484200" cy="1500480"/>
          </a:xfrm>
          <a:prstGeom prst="upArrow">
            <a:avLst>
              <a:gd name="adj1" fmla="val 50000"/>
              <a:gd name="adj2" fmla="val 50056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трелка вверх 4"/>
          <p:cNvSpPr/>
          <p:nvPr/>
        </p:nvSpPr>
        <p:spPr>
          <a:xfrm rot="6492000">
            <a:off x="5958000" y="757800"/>
            <a:ext cx="486000" cy="1303560"/>
          </a:xfrm>
          <a:prstGeom prst="upArrow">
            <a:avLst>
              <a:gd name="adj1" fmla="val 50000"/>
              <a:gd name="adj2" fmla="val 4983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2435040" cy="1857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3143160" y="3929040"/>
            <a:ext cx="2849760" cy="1857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4"/>
          <a:stretch/>
        </p:blipFill>
        <p:spPr>
          <a:xfrm>
            <a:off x="6215040" y="1857240"/>
            <a:ext cx="2571840" cy="1971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223920" y="3929040"/>
            <a:ext cx="27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мобил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ой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2590560" y="6000840"/>
            <a:ext cx="40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ое электр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6072120" y="400068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нечных батаре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2600"/>
            <a:ext cx="8436240" cy="14749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2"/>
          <p:cNvSpPr/>
          <p:nvPr/>
        </p:nvSpPr>
        <p:spPr>
          <a:xfrm>
            <a:off x="285840" y="1071720"/>
            <a:ext cx="857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тенциал энергии ветра подсчитан более менее точно: по оценке Всемирной метеорологической организации ее запасы в мире составляют 170 трлн кВт·ч в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нергия волн имеет существенные преимущества перед другими видами возобновляемых источников, к примеру, перед ветром. Поведение волн более предсказуемо, а плотность энергии в них в 50 раз выше, чем в вет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285840" y="357120"/>
            <a:ext cx="8429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икобритания использует энергию ветра и волн, и к 2012 году 10% энергии страны будут из возобновляемых источников, ведь энергии ветра и волн гарантированно хватит намного дольше, чем органических источников энер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071720" y="2928960"/>
            <a:ext cx="3692520" cy="29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5572080" y="2928960"/>
            <a:ext cx="2428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1" descr=""/>
          <p:cNvPicPr/>
          <p:nvPr/>
        </p:nvPicPr>
        <p:blipFill>
          <a:blip r:embed="rId1"/>
          <a:stretch/>
        </p:blipFill>
        <p:spPr>
          <a:xfrm>
            <a:off x="2219400" y="6480"/>
            <a:ext cx="4529160" cy="1139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357120" y="121428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данный момент водород является самым разрабатываемым «топливом будущего». На это есть несколько причин: при окислении водорода образуется как побочный продукт вода, из нее же можно водород добывать. А если учесть, что 73% поверхности Земли покрыты водой, то можно считать, что водород неисчерпаемое топливо. Так же возможно использование водорода для осуществления термоядерного синтеза, который вот уже несколько миллиардов лет происходит на нашем Солнце и обеспечивает нас солнечной энерг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285840" y="357120"/>
            <a:ext cx="8643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дород в основном применяют для производства азотных удобрений и для превращения низкокачественных видов сырой нефти в моторное топливо. Сжиженный водород используют для получения сверхнизких температур и в качестве горючего для криогенных ракетных двигателей. Водородные заправки уже появились в нескольких местах в Германии, Японии, СШ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02:43Z</dcterms:created>
  <dc:creator>Маша</dc:creator>
  <dc:description/>
  <dc:language>en-US</dc:language>
  <cp:lastModifiedBy>Маша</cp:lastModifiedBy>
  <dcterms:modified xsi:type="dcterms:W3CDTF">2010-04-22T12:52:21Z</dcterms:modified>
  <cp:revision>25</cp:revision>
  <dc:subject/>
  <dc:title>Слайд 1</dc:title>
</cp:coreProperties>
</file>